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393-DF49-4BF1-B3BC-8697BC70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407-3561-42FD-8B60-2324F42A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718-6298-458A-A9EA-426CE583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C34-E0C1-4E94-9DFD-8500EC74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E07-6C70-49F6-97F8-1CAA9F60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A87-D539-454E-AFED-3109D7A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5AD-767B-402E-8187-397871B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EBF-F282-4D17-B45E-954E7F8D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230-C20D-4015-A246-01722AC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68EB-9220-4153-AE2F-749ABFC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B7EE-12EE-4D10-9D16-3CAFFCE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23-C268-494D-AA9F-15DF0F9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025-0A5B-41CB-A544-8EB2457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114-673B-45C2-B501-0B64116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917F-8025-4FEE-8887-722FC6E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5AE7-B060-4D89-81B5-499AE29D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6A2D-0E1F-45F8-B23A-78046AA1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A01-4BD7-47F6-8043-984ABCF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4C1-233F-45E0-8C0C-0D639AAF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D50-C092-46F3-9E04-22A26B9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BE7-9863-40EB-AABD-F84DE09A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C8B-ABB9-48C9-A954-6417896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E66-7E7E-4A4F-8941-655405A5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C9A-AE35-4FA3-8232-227D9D5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E0EA-B926-4F05-89F1-A537305C183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9F26-7332-4CEA-A640-8AEB58C2A5E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characteristics of experimental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principles of sampl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major types of experimental designs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a 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methods of collecting dat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methods of collec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Music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364500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experimental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ause-effect relation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independent and dependent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English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should be included in a research stud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Exercise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50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experimental desig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 Pretest-posttest Control Group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- Quasi-experiment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 Time series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 Withdraw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 Bag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5:17Z</dcterms:modified>
  <cp:revision>16</cp:revision>
  <dc:subject/>
  <dc:title>Course: Fundamentals of Research</dc:title>
</cp:coreProperties>
</file>